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D00-379C-4DD7-9B43-B4EC7911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8EF-9F7C-472C-AA0D-746E3CE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7F1-6543-4EAB-98DB-EE8ECAC9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9A-389B-470F-BA65-2E3ABDB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8C2-E4FA-4EF4-B3BA-16E865D2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C8A-CB8D-440C-A4BC-16A3EC99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367-12A9-4298-9939-FC06D8A6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A98-24F4-42B8-AE4D-F0A2F04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C72-A48D-4809-BC84-F06A523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CE1-1935-4894-9B56-1602424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79B-326C-447E-948F-E0BA6C7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FD2-45E5-441B-848C-3D62BE2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0FB-82BF-4196-AC2F-4B80D9302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324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ПИДЕМИОЛОГИЈУ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28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 report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 којима се приказују појединачни случајеви пацијената са ретким болестима или код којих се након примене лека испољил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 нежељено дејство или неспецифичан клинички налаз који може бити значајан стручној ја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- постављање хипотеза које се у будућим, опсежнијим истраживањима мора тести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е случајев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eries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пацијенат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 лек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о исход се прати појава жељеног терапијског исхода ил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нежељене реакц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 студијама се може пратити група пацијената са већ испољен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едицинском смислу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ајном појав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у циљу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тхо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оженост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 фактору или лек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трендов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е студиј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има се квантификује повезаност између тренда појаве одређеног медицинског стања у популацији и тренда заступљености одређеног фактора којем је популација била излож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верзалне“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у једном одређеном временском интервалу одређују изложеност фактору од интереса као и присуство клинички значајног стања у датој попул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популације, евалуација присуства фактора ризика и болести од интереса и анализа добијених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-анлитичк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процењују постојање статистичке повезаности између евалуираних фактора ризика и појаве болести или исхода од интер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 врсту дизајна показују кохортне студ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hort stud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студије случај-контрол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eng. 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30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упа људи са заједничким иску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типу студ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евалуира повезаност између фактора ризика и здравствених исхода од интереса што омогућава сагледавање етиологије испитиване боле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истраживања: Утврђивање учесталости обољења у испитиваним популацијама, пропорције оболелих међу изложеним и нелизоженим пацијен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гитудиналне студије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ивне/ретроспекти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 у IV фази клиничких истражи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own Arrow 4"/>
          <p:cNvSpPr/>
          <p:nvPr/>
        </p:nvSpPr>
        <p:spPr>
          <a:xfrm>
            <a:off x="6732720" y="2349360"/>
            <a:ext cx="360360" cy="2374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4100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фикација изложе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спективним студијама лако се доказује временска веза између изложености леку и посматраног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очити ретке пој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хтевају рандомизацију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тр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е 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испита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убитак" пациј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nfounding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election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Recall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лучај контрол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оде на мањем броју испитаника и краће трају у однос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хортне студиј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се прати повезаност испољавањ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 од значаја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упи пацијената и изложеност ове групе лек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4"/>
          <p:cNvSpPr/>
          <p:nvPr/>
        </p:nvSpPr>
        <p:spPr>
          <a:xfrm>
            <a:off x="6516720" y="2276640"/>
            <a:ext cx="576360" cy="2952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ипа случај-контрола (eng. case-contro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ћене су две групе пацијената, „случајеви“ и „ контроле“ које су по свему сличне осим по испитиваној болести или испољеном исходу од интереса (нпр. нежељено дејство ле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контролне групе у односу на општ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„случајева“ у односу на стварну популацију пацијената који имају дату 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ирана клиничка студи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. randomized controlled trial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рвентна студија у којој две групе пацијената које су по свему сличне сем по изложености леку се након експозиције посматрају у смислу испољавања било терапијског ефекта било нежељеног деј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 стандард“у фармакоепидемилоги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и за поређење лека у односу на други лек или плацебо у смислу ефикасности и/или безб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ациј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„маскираности“!!! (двострука/једностру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потребе лекова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drug utilization research) имају за циљ да опишу схеме употребе лекова и да идентификују проблеме везане за употребу и потрошњу ле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ечна дневна доза лека у терапији одржавања за основну индикацију код одраслих особа која се додељује само за лекове који имају АТЦ к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за неки лек је договорена доза лека коју је усвојил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експерата Светске Здравствене Организације која одражава најчешће прописивану дневну количину тог 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схватит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о јединицу мер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а не подразумева у сваком случају исту вредност и за прописану дневну доз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да осликава уопштену вредност дозе независну од генетичких и других варијациј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не додељује з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препара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неопластич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анестет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јединице мере ДДД се користе следеће ознак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љаде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и пако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хал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блингв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 – трансдерм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з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кт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ентер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ДДД се додељује једном АТЦ коду, односно начину при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тек пошто је лек одобрен и пласиран макар у једној земљ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намењене за третман ретких болести које се дозирају индивидуално, стручна тела и радне групе могу одобрити употребу и без ДДД-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доза намењена одраслима за главну индикацију одређена је АТЦ кодом, и подразумева примену код одраслих особа на тт од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к и фармацеутске форме намењене углавном деци имају ДДД прерачунате за одрасле (сем хормона раста, таблета флу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одржавања се утврђује пошто се леку додели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једине групе лекова важе одређени принципи за додељивање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на ос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 утврђеног састава лековите супстанце, помоћне лековите супстанце не мењај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стереоизомери  захтевају посебан АТЦ код, али и посебн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кови имају исти АТЦ код па и исту ДДД као и ле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је обично идентична за различите облике једног истог л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е се посебне ДДД, уколико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пут примене лека подразумева и различиту биоискористљив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ако с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облици једног лека користе за различите индика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арентерална фракција представља незнатни део укупне примене лека нема потребе за посебном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оизводи намењени за  интрамускуларну и интравенску примену имају идентичну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 представља скоро увек "компромис", јер је резултат прегледа и анлизе доступне литературе која укључује и податке о дозама које се користе за одређену индикацију у различтим регионим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проучавање клиничке употребе лекова у општој попул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а примен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нет ресурса који се односе на АТЦ/ДДД кон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се може наћи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рагом Листе лекова које финансира РФЗО http://www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zzo.sr.gov.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повремено ревидирају и мењају, сходно истим принципима који важе и за усвајање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промене су минорне, и за њих је задужена Међународна радна група за статистику и методологију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ћење потрош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ог система у оквиру којег се употребљ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евидентирају и прате у погледу потрошње – употреб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TC/DDD метод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кa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о број DDD на 1000 становника (у друштв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вредност DDD сваком леку се додељ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TC к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параметре, може се доделити и монет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свакој DD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надним математичким операција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тврдити алокацију буџета, као и идентификацију лекова који захтевају највише улагања у економском смис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BC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Better Control analy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Vital, Essential, Desirable analysis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– наука која проучава лекове кроз медицинско –  здравствени, економски и друштвени аспект деловања у условима њихове терапијск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ава сазнања о лековима која су проистекла из клиничких испитивања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и за процену односа користи и ризика примен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коепидем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икасности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утицаја деловања истовремене примене неколико груп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описивања и коришћењ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односа користи и ризика примењеног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е (не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описују схеме употребе лекова у ретроспективном или проспективном маниру“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(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у факторе ризика који могу утицати на употребу и потрош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е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ју утицај интервенције или фактора ризика на изложен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 додељује интервенцију (профилактичку, терапијску, едукативну) групи испитаника са циљем евалуације утицаја интервенције на исход од интереса у односу на групу која није била изложена интервен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иказа појединачног случаја (eng. case report stud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ерије случаја (eng. case se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0:26:53Z</dcterms:created>
  <dc:creator>Author</dc:creator>
  <dc:description/>
  <dc:language>en-US</dc:language>
  <cp:lastModifiedBy>Marina Kostic</cp:lastModifiedBy>
  <dcterms:modified xsi:type="dcterms:W3CDTF">2023-09-11T10:10:09Z</dcterms:modified>
  <cp:revision>32</cp:revision>
  <dc:subject/>
  <dc:title>УВОД У ФАРМАКОЕПИДЕМИОЛОГИЈУ</dc:title>
</cp:coreProperties>
</file>